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Înv. Gurin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5E61-990B-43E9-AF19-34D66349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165-4095-4D61-BFFC-D182635C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Înv. Gurin 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2F56-3964-446A-836B-B586BC28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AB6-3C6F-4556-ADFA-4100D524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AD1-F9E3-4140-8803-F317D711B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B49-2CB5-473F-B54C-91AC5FF5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CEED-FC35-4012-AD9C-9ABAD59D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A3A-C29E-4087-9409-2F9B42FF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14ED-77A7-4F8C-A2D1-33E779399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2066-0AAE-49FC-A348-AEAA17DF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CB50-0E96-455F-BEF1-ADD112E9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BFE1-6395-474F-8D04-AC4266DA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E662-896D-4C2C-AB32-DDFF1DE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529-FA9D-46B2-B758-DF194F09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DA7-C519-4A05-8359-FF3E374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D59A-5B30-4130-BB98-15EE48B6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D11F-E29B-4EDC-86E7-FEFFBAD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752-EB19-48BB-8771-3E23EDB5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DC0D-4490-4AEA-A4FF-2DACF9FD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C95-3FBE-4A30-9B97-44D15151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D38-8366-4128-A411-7290C87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BF2-9FC1-4450-9CC5-BAA1EFDB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5E2-3BD1-41E0-B622-0D381884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683B-2B3B-4D07-AD59-7BEE78E2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B1B-7393-4502-9191-5D8EE353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820-2451-4D69-B72C-922C3BD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0000" y="259560"/>
              <a:ext cx="69552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6920" y="4276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0720" y="150084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0720" y="400752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0720" y="2751840"/>
              <a:ext cx="69516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0000" y="5253840"/>
              <a:ext cx="695520" cy="6904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1DC2-C478-4088-8C1C-E7EF47C84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prstGeom prst="pie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prstGeom prst="pie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prstGeom prst="pie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prstGeom prst="pie">
              <a:avLst/>
            </a:prstGeom>
            <a:gradFill rotWithShape="0">
              <a:gsLst>
                <a:gs pos="0">
                  <a:srgbClr val="ff663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prstGeom prst="pie">
              <a:avLst/>
            </a:prstGeom>
            <a:solidFill>
              <a:srgbClr val="ff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32EC-6EAE-4F03-A813-945DDE6EBAC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57160" y="321480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7200" spc="-1" strike="noStrike">
                <a:solidFill>
                  <a:srgbClr val="000000"/>
                </a:solidFill>
                <a:latin typeface="Times New Roman"/>
              </a:rPr>
              <a:t>Numerele naturale de la 100 la 1 000</a:t>
            </a:r>
            <a:br>
              <a:rPr sz="7200"/>
            </a:br>
            <a:r>
              <a:rPr b="1" i="1" lang="ro-RO" sz="7200" spc="-1" strike="noStrike">
                <a:solidFill>
                  <a:srgbClr val="000000"/>
                </a:solidFill>
                <a:latin typeface="Times New Roman"/>
              </a:rPr>
              <a:t>- recapitulare şi sistematizare</a:t>
            </a:r>
            <a:endParaRPr b="0" i="1" lang="en-US" sz="72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  <p:transition advTm="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600" spc="-1" strike="noStrike">
                <a:solidFill>
                  <a:srgbClr val="ffffcc"/>
                </a:solidFill>
                <a:latin typeface="Times New Roman"/>
              </a:rPr>
              <a:t>681 și 68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din care scădem se numește.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Numărul din care scădem se numește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descăzut 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Numărul 345 , este scris corect cu litere mai jo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- Treisute patru zeci și cinc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ffffcc"/>
                </a:solidFill>
                <a:latin typeface="Times New Roman"/>
              </a:rPr>
              <a:t>Nu este scris corect, pentru că se scrie 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 u="sng">
                <a:solidFill>
                  <a:srgbClr val="ffffcc"/>
                </a:solidFill>
                <a:uFillTx/>
                <a:latin typeface="Times New Roman"/>
              </a:rPr>
              <a:t>trei sute patruzeci și cin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Termenul necunoscut într-o operație de adunare îl aflăm....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4280" y="164304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Termenul necunoscut într-o operație de adunare îl aflăm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 u="sng">
                <a:solidFill>
                  <a:srgbClr val="ffffcc"/>
                </a:solidFill>
                <a:uFillTx/>
                <a:latin typeface="Times New Roman"/>
              </a:rPr>
              <a:t>scăzând din sumă termenul cunosc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Spuneți 2 numere mai mari decât 326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800" spc="-1" strike="noStrike">
                <a:solidFill>
                  <a:srgbClr val="ffffcc"/>
                </a:solidFill>
                <a:latin typeface="Times New Roman"/>
              </a:rPr>
              <a:t>327 și 32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Expresia matematică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 cu at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â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i mult/mare”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ne indică că trebuie să facem operația de ..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25244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JOC IDAC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– </a:t>
            </a:r>
            <a:r>
              <a:rPr b="1" lang="ro-RO" sz="3200" spc="-1" strike="noStrike">
                <a:solidFill>
                  <a:srgbClr val="cc0000"/>
                </a:solidFill>
                <a:latin typeface="Times New Roman"/>
              </a:rPr>
              <a:t>RASPUNDE ÎN  5  SECUNDE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Pentru fiecare întrebare ai  5 secunde pentru a da un răspu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Dacă răspunsul tău este corect iei de pe masă o floare pentru că ai obţinut un pun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6633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d147"/>
                </a:solidFill>
                <a:latin typeface="Times New Roman"/>
              </a:rPr>
              <a:t>Dacă răspunsul tău e incorect, te rog să fii mai atent data viito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1214280" y="28584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Times New Roman"/>
              </a:rPr>
              <a:t>Numerele naturale de la 100 la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..... de adunar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pe care îl scădem se numește.....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Numărul pe care îl scădem se numește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scăzător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cover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Descăzutul îl aflăm......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Descăzutul îl afăm </a:t>
            </a:r>
            <a:r>
              <a:rPr b="1" lang="ro-RO" sz="6600" spc="-1" strike="noStrike" u="sng">
                <a:solidFill>
                  <a:srgbClr val="ffffcc"/>
                </a:solidFill>
                <a:uFillTx/>
                <a:latin typeface="Times New Roman"/>
              </a:rPr>
              <a:t>adunând la rest scăzătorul</a:t>
            </a: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Adevărat sau fal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643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&lt; 6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Fal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cc"/>
                </a:solidFill>
                <a:latin typeface="Times New Roman"/>
              </a:rPr>
              <a:t>643&gt; 634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Expresia matematică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“ cu at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ât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mai 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puți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mi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ro-RO" sz="5400" spc="-1" strike="noStrike">
                <a:solidFill>
                  <a:srgbClr val="000000"/>
                </a:solidFill>
                <a:latin typeface="Times New Roman"/>
              </a:rPr>
              <a:t> ne indică că trebuie să facem operația de ..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heel spokes="2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.....de scăder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ezultatul opera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ției de adunare se numește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4400" spc="-1" strike="noStrike">
                <a:solidFill>
                  <a:srgbClr val="cc0000"/>
                </a:solidFill>
                <a:latin typeface="Times New Roman"/>
              </a:rPr>
              <a:t>Răspunde</a:t>
            </a: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Din câte sute, din câte zeci şi din câte unităţi este format numărul 563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Rezultatul operației de adunare se numește </a:t>
            </a:r>
            <a:r>
              <a:rPr b="1" lang="ro-RO" sz="5400" spc="-1" strike="noStrike" u="sng">
                <a:solidFill>
                  <a:srgbClr val="ffffcc"/>
                </a:solidFill>
                <a:uFillTx/>
                <a:latin typeface="Times New Roman"/>
              </a:rPr>
              <a:t>sumă sau total</a:t>
            </a:r>
            <a:r>
              <a:rPr b="0" lang="ro-RO" sz="5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Între numerele 349 și 351 se află numărul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..... se află numărul </a:t>
            </a:r>
            <a:r>
              <a:rPr b="1" lang="ro-RO" sz="7200" spc="-1" strike="noStrike" u="sng">
                <a:solidFill>
                  <a:srgbClr val="ffffcc"/>
                </a:solidFill>
                <a:uFillTx/>
                <a:latin typeface="Times New Roman"/>
              </a:rPr>
              <a:t>350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Scăzătorul îl aflăm..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Scăzătorul îl aflăm </a:t>
            </a:r>
            <a:r>
              <a:rPr b="1" lang="ro-RO" sz="6600" spc="-1" strike="noStrike" u="sng">
                <a:solidFill>
                  <a:srgbClr val="ffffcc"/>
                </a:solidFill>
                <a:uFillTx/>
                <a:latin typeface="Times New Roman"/>
              </a:rPr>
              <a:t>scăzând din descăzut restul</a:t>
            </a: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Adevărat sau fal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918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98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Fals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918</a:t>
            </a:r>
            <a:r>
              <a:rPr b="0" lang="en-US" sz="7200" spc="-1" strike="noStrike">
                <a:solidFill>
                  <a:srgbClr val="ffffcc"/>
                </a:solidFill>
                <a:latin typeface="Times New Roman"/>
              </a:rPr>
              <a:t>&lt;</a:t>
            </a: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 98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Numărul 546 are pe poziția zecilor cifra 5 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ffffcc"/>
                </a:solidFill>
                <a:latin typeface="Times New Roman"/>
              </a:rPr>
              <a:t>Fals! Are pe poziția zecilor cifra 4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428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Spuneți 2 numere mai mici decât 500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Numărul 563 este format din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5 s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6 ze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cc"/>
                </a:solidFill>
                <a:latin typeface="Times New Roman"/>
              </a:rPr>
              <a:t>3 unităţ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300 și 400 ...sau alte variante de răspuns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split dir="in" orient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V-a plăcut acest concurs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800" spc="-1" strike="noStrike">
                <a:solidFill>
                  <a:srgbClr val="ffffcc"/>
                </a:solidFill>
                <a:latin typeface="Times New Roman"/>
              </a:rPr>
              <a:t>Cu siguranță , d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2001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0" spc="-1" strike="noStrike">
                <a:solidFill>
                  <a:srgbClr val="000000"/>
                </a:solidFill>
                <a:latin typeface="Times New Roman"/>
              </a:rPr>
              <a:t>Numărul 673 are pe poziția sutelor cifra 6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ffffcc"/>
                </a:solidFill>
                <a:latin typeface="Times New Roman"/>
              </a:rPr>
              <a:t>Da, este adevăra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7200" spc="-1" strike="noStrike">
                <a:solidFill>
                  <a:srgbClr val="000000"/>
                </a:solidFill>
                <a:latin typeface="Times New Roman"/>
              </a:rPr>
              <a:t>Numerele care se adună se numesc...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000000"/>
                </a:solidFill>
                <a:latin typeface="Times New Roman"/>
              </a:rPr>
              <a:t>Răspunsul  corect 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ffffcc"/>
                </a:solidFill>
                <a:latin typeface="Times New Roman"/>
              </a:rPr>
              <a:t>Numerele care se adună se numesc termeni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400" spc="-1" strike="noStrike">
                <a:solidFill>
                  <a:srgbClr val="cc0000"/>
                </a:solidFill>
                <a:latin typeface="Times New Roman"/>
              </a:rPr>
              <a:t>Răspunde în 5 secunde!</a:t>
            </a:r>
            <a:endParaRPr b="0" i="1" lang="en-US" sz="4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50"/>
              </a:spcBef>
              <a:buClr>
                <a:srgbClr val="ff6633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600" spc="-1" strike="noStrike">
                <a:solidFill>
                  <a:srgbClr val="000000"/>
                </a:solidFill>
                <a:latin typeface="Times New Roman"/>
              </a:rPr>
              <a:t>Următoarele 2 numere consecutive după 680 sunt......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8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6T17:33:58Z</dcterms:created>
  <dc:creator>Cristian</dc:creator>
  <dc:description/>
  <dc:language>en-US</dc:language>
  <cp:lastModifiedBy>Gurin Ionut</cp:lastModifiedBy>
  <dcterms:modified xsi:type="dcterms:W3CDTF">2008-04-16T19:31:58Z</dcterms:modified>
  <cp:revision>103</cp:revision>
  <dc:subject/>
  <dc:title>Anton Pann</dc:title>
</cp:coreProperties>
</file>